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6.gif" ContentType="image/gif"/>
  <Override PartName="/ppt/media/image9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5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D5C-F2F4-4602-A6E2-6D892CA8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8C3-6C7F-4424-942D-6BAE6F7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958-3E73-47F5-85CD-85811ED9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E6B-BB94-42D4-80F0-6021A1BE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608-B8DC-421B-B988-64927C7E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1FF-5B87-4B14-9FB7-184E1A53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B19-8C38-4D95-AFB1-C3D6065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1FD-2641-4659-BD0F-DA503753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9D3-43C5-4AEB-B249-17ECE721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7C1-838C-4D5D-9C26-43B440AB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BB6-B19F-40FD-ADB0-24023E70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C1F-B7E8-4C85-BB7C-FC8548A1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C339-E768-4E77-8E2E-7E00F85B7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El</a:t>
            </a:r>
            <a:r>
              <a:rPr b="1" lang="en-US" sz="54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Pretéri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mic Sans MS"/>
              </a:rPr>
              <a:t>Los Verbos con Camb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Los Verbos Ir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1337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22560" cy="18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13273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447920"/>
          <a:ext cx="14428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14428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38880" y="2590920"/>
          <a:ext cx="13194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90920"/>
                    <a:ext cx="1319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04920" y="4759200"/>
            <a:ext cx="183672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10280" y="5257800"/>
            <a:ext cx="1836720" cy="132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7720" y="1549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mesera _____(servir) la c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240" y="304812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___________(despedirse)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36520" y="47498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ón _____(dormir) en e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" y="62625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onso y su primo___________(divertirse) mu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2600" y="1600200"/>
            <a:ext cx="9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5680" y="3048120"/>
            <a:ext cx="15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espid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9400" y="4800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durm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7400" y="624852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Más Práct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240" y="1371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Escribe la forma del pret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18800" y="1752480"/>
            <a:ext cx="91342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Yo __________(cruzar) la calle para ir a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Todos los estudiantes _________(repet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los ver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.  Los atletas __________(jugar) en el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4.  El gato __________(dormir) lejos del p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5.  Mi papá __________(leer) la revista en la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6.  Tú _________(cerrar) la puerta antes de sa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7.  Ustedes __________(sentarse) en la s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8.  Mis hermanos __________(oír) las noticias 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9.  Yo _________(practicar) el tenis ano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0. Clara _________(divertirse) con sus pri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5480" y="1766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ru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7960" y="21337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epit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11880" y="30481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jug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4680" y="34290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urm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9280" y="388620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ley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43434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err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760" y="47242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sent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2400" y="51814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oy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8600" y="5562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ract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4160" y="603396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divi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Cambia los verbos al pret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r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520" y="1646280"/>
            <a:ext cx="230688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ien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v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1658880"/>
            <a:ext cx="267264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le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menz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ju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a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id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refer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n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e vis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epet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92564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23619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é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a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6200" y="45640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760" y="3965400"/>
            <a:ext cx="7089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é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45560" y="1397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AR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8241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Los Vebos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Comic Sans MS"/>
              </a:rPr>
              <a:t>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3960" y="12924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-ER  -IR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í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7120" y="3965400"/>
            <a:ext cx="676728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í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e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450800" cy="183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33200"/>
            <a:ext cx="4673520" cy="10083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360" y="1397160"/>
            <a:ext cx="423288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Beber (y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mpartir (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Enseña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varse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ivir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Sali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Mandar (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ender (Ud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rrer (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Trabajar (U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8320" y="14176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e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2200" y="1905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1360" y="24382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señ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8320" y="2971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 lav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3429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6320" y="396252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al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52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6880" y="48769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8200" y="54100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rr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2320" y="58672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45240" y="26971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Verbs that end in –car -gar -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Spelling Change in the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Comic Sans MS"/>
              </a:rPr>
              <a:t>yo</a:t>
            </a: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 form onl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505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160" y="4979880"/>
            <a:ext cx="64108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bus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Yo emp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to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Yo almor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ll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g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 Yo practi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3400" y="2671920"/>
            <a:ext cx="26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q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0481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26708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51560" y="2851200"/>
            <a:ext cx="2006640" cy="202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Karate Chop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5480" y="174960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   i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é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ll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ms only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7880" y="2590920"/>
            <a:ext cx="39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ó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080" y="4800600"/>
            <a:ext cx="70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forms are accented except the ellos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981080"/>
            <a:ext cx="99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7640" y="5483160"/>
            <a:ext cx="751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ím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        Caí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ste  Oíste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ste   Caí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r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ó      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1433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Andy"/>
              </a:rPr>
              <a:t>Completa con el pretérito del ver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Ayer yo (tocar) __________ el p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Yo (almorzar) _________ en Taco B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(apagar) _________ las luces de mi cua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ú (oír) ________ las noticias 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Yo (jugar) ______ los videojue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ds. (leer) ______ la novela para la clase de ingl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43800" y="1295280"/>
            <a:ext cx="1295280" cy="123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11640" y="163656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toq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20520" y="26208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lmorc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440" y="36115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pag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0040" y="460224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o</a:t>
            </a:r>
            <a:r>
              <a:rPr b="0" lang="el-GR" sz="3200" spc="-1" strike="noStrike">
                <a:solidFill>
                  <a:srgbClr val="9966ff"/>
                </a:solidFill>
                <a:latin typeface="Comic Sans MS"/>
              </a:rPr>
              <a:t>ί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41560" y="511164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jug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72440" y="57452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ley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Comic Sans MS"/>
              </a:rPr>
              <a:t>Cambia al pretéri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1494000"/>
            <a:ext cx="2543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l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v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a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r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g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investi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2120" y="1523880"/>
            <a:ext cx="286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anch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vend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racti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le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r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gan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vestig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empe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o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oí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2362320"/>
            <a:ext cx="27432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Stem 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4880" y="1600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n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will have a stem change in the prete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96480" y="2387520"/>
            <a:ext cx="45363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960" y="2438280"/>
            <a:ext cx="40791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94800">
            <a:off x="146520" y="4777200"/>
            <a:ext cx="121248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354200">
            <a:off x="6996240" y="4800960"/>
            <a:ext cx="137700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520" y="50288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689360"/>
            <a:ext cx="462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changes in él and ellos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5840" y="5477040"/>
            <a:ext cx="546768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Pref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e Div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p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nt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v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2:52:33Z</dcterms:created>
  <dc:creator>Mark A. Langer</dc:creator>
  <dc:description/>
  <dc:language>en-US</dc:language>
  <cp:lastModifiedBy>Home User</cp:lastModifiedBy>
  <dcterms:modified xsi:type="dcterms:W3CDTF">2007-09-24T03:23:13Z</dcterms:modified>
  <cp:revision>38</cp:revision>
  <dc:subject/>
  <dc:title>The past tense of –ar verbs</dc:title>
</cp:coreProperties>
</file>